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02A6-240B-478E-A74F-5F51EB06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6FA0-B539-4463-B5F5-57432C7E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71A92-EF8E-4DBE-85EF-73A35E3E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E092B-9F7F-4990-8FCC-06E16F39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79116-70DA-4129-9F32-2F34726F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4AE34-8446-4C78-81D8-7FAAA829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EFA3C-B586-4AE2-961D-2944C55F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77FCA-D64C-4889-A1FD-0F488921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4CA4D-FC1D-4F02-8EBC-F52D2FAA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3ECB59-FB4E-40AB-8BA7-A25AAA07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E2D97-02F4-4B7C-A940-F20E4374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7F3C9-FA18-4EDB-B05F-62871999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839-8D01-4C70-A6DD-6906DA14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9FF37C-66F4-4E2F-9B55-1AC1995F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91491D-8805-4628-AF29-38F955B1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7B99C-E0DB-4D63-BC0B-1B6A958B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F7188B-DADE-448E-8D27-F58D2A8B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AB801-A52C-4F1C-9CA4-C5EB16E3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5A99A-97A2-4AE7-9D7C-9D2A2889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BB50C2-DE07-4A68-8AA7-523A1B7E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338C15-0E62-417B-B509-8BF7949E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E7E3B9-DB53-4C45-BA3B-20C42402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29EA81-373A-48B2-96B9-1AB62FB7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9BA-C4D4-4DE3-9870-009354FC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14D33-B3A4-4ACC-B4B6-C7D4C68D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A018C-F817-4D60-918E-8AEF61A0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49C81-4795-44DB-859B-5DCE2EA9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53852-EC2D-451F-A439-81E1C172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6018D-AA40-4918-8A52-76C33900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E0A74-C7F7-4572-8C08-55EFD7AF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62360-4E80-444E-8AAB-DEC9802A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18E77-515C-46CF-9CA6-87EB1F2A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8D451-2ABA-44CB-BF34-BAA2BB41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9617B-B785-4600-B318-0C06DA4A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3107-7AA5-4159-8605-342321B0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EBA92-538C-42B1-942B-A9849D2F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E7597-5F09-478D-AF94-673333BA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A1E92-575E-4B13-80CB-CB12366D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068D3C-0D95-4DBA-96CF-A8599008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12BE4D-1126-4CDA-9A4B-270EB75B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068BB-4742-4691-9907-4094944A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FF9055-F971-4035-9D43-C4D4CAA1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F6E86A-921E-47DF-BAF4-9285F7A5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875561-E314-434B-B37C-B6C8233D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06924C-9525-419E-8E7E-6793C494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8196-7E67-43A8-BDBC-A67585AA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E5FA23-CD48-47A8-8F4A-C6213349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0DC0A-AEC8-4207-98A5-5680740B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746D46-34C1-4F38-AF5A-E51152B0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8CFDF-EEE4-4550-A862-53CD8206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CF7BD0-6CC6-40DC-A170-8BDEDA83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8DF4-76CC-4F24-8582-D0137718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FFE9-E068-4F56-9436-0647E6F0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8C40-12F7-479C-A6A7-6C4DC609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758B-11D6-4538-B2DA-11E693D0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5773-0C65-4792-B075-8B644F9C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C239-3928-4BBF-9FE6-D9BEBBF4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6D8C-A7DF-461D-825F-05AA8513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410E-19B4-48A6-9514-9B9A23E4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E3EE-A2E2-46C2-B416-4E59F00E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ECE0-B8B8-4859-BF6C-96EE00B8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C1D6-0A11-4CF7-B2E6-2212FE48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AB3C5-F1A4-4ED8-A89F-19780B3E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96DF5-9C99-4716-A1D0-748CF584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76EA1-EF3C-4259-A660-B23FDEC7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E7A75-723E-42FC-8C49-6472D497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C5116-B831-44CB-B1CE-19BD9016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281-C3E7-448E-8046-3960FDD1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9A06A-7E1C-498C-9780-17F7CC12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CABC4-7494-4336-9117-2FFFFBB1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1075B-1942-43B8-A376-A89B946F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B8733-6681-4BC5-885B-DB879D98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ADC37-7AFC-427D-99F1-A2271DF3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EE928-5242-412B-A60E-5BD4875F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77F70-467D-4E19-BC94-FCD39228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7D773-637E-4EEB-95E3-DA0A18E3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28B59-CD0A-49D9-91BC-15E1545C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1D7BC-09F3-4DD9-8DB8-AF7788E4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8CC-711D-4ED5-B4C6-1D07C1B5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94672-2655-40D7-8EAE-39A3D129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96F4F-7C93-4356-A3E5-8D942B7D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418A6-53D6-4DFE-ACC0-497D5F0D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E0BC7-C716-44FE-880E-65D7528C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B06A2-68EF-4DDA-AC50-7BDD0B5F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EAC78-5FBB-42DE-844C-124051CA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697EC-0014-4ADF-813A-DF346F14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7C52A-E43B-4DEB-BCC9-7BF76A01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E71BE-9BFA-4506-B6DE-34A4C924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ABCB3-DBE6-4AAC-AF3D-CBE09D9A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075-FF81-476D-B6C1-83A39C94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1EDE5-D6FA-4AE7-A9C3-AF0E063F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F4639-F21D-4120-BCB1-0E4C7265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4280B-A8D9-418A-BED6-7D36B2B7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370C8-1AD7-4224-8BD0-F0A5C667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C5EB4-65FF-4E93-A51A-7759E6DA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20412-EFF8-4D2C-92FC-FA579BA7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5E0EC-B2AC-4F9D-82F5-5017ED9E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F3A2E-DCF2-4E1D-9532-F8D50633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21D41-F4E0-4FD1-9035-CEBD4876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61CD6-2148-4E99-A1F9-9F4F69E2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5135-9921-4C48-8EE1-23968BE3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2E30D-2BD3-4E4F-B474-5A688010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9B24F-7220-482B-8E2B-03A29B78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872CC-8DFA-4897-84F3-D4A224FE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B5284-38EA-49C3-8305-4BCE6AA6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31FBC-3271-4CE1-BA02-F50C9BAA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847EC-D917-4C20-BDF5-6F718E47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D0D42-B88B-4D9C-8544-CD16B76E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F75EC-EFCE-43CD-8B57-0F4CFFE6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D63DE-9FDA-422C-92D6-6458EE53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831B5-7960-421C-842C-6665CA82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989-54D5-46CC-BB5A-000E6235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31ADE-1637-4659-A7CE-3006F385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B942C-07F1-4565-A037-EBA14C28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9385B-8621-4EAE-9B3A-021F3409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2F2A8-11C1-4C6D-800C-98256A66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6F5C6-9666-4D1A-A1BF-4586E235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0A179-2CB1-4F12-8807-049EDAA0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F7911-683A-418A-830B-875EEA94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06E03-D4A5-4AD8-8720-D9786254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E0E34-585E-403E-9CE4-0A9D9C9A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3AC0B-222C-44C6-A306-07E89616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EB5-AD38-41DD-91D7-93CB163C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BBEF3-5EA9-40B5-9E81-D534C9F0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C126F-2EFA-4A0D-9AFF-21A21896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322D4-3E23-4DC9-8029-50A6AE70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2876B-CAFC-4C88-B6E7-ACA21051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E2340-3E20-4E49-801C-CE26766D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937D6-A416-4C55-B868-2521C834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149EF-5C5C-4763-B50E-5C529639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25A5E-B8A0-4043-A1D3-E27987F3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0FB59-E53C-480C-9325-25184B9A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12A53-72A4-4C0D-A602-E75CA644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34E5-976B-4F66-83D4-CF7AA858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73DC5-F73D-439D-8D77-20FE8F8E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951F1-7530-4708-ADD0-789DB9EB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B4A70-1CC9-43BC-A464-9FD23291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38A8A-F7CB-46BC-9F4A-04E848D6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4FA6D-9E6D-41DB-8C72-F3BEDEB5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D5395-3314-4F67-A8B6-166B060E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39E3C-535E-464E-9C17-A44741F6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D1692-2AA7-4347-BEC6-4259B9EA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77F4F-D369-42F3-85F1-DAA479EA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FFFF7-2BF3-446E-B779-B2C05958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26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261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434D-0C35-4801-88AF-1202C37951B1}" type="slidenum">
              <a:rPr b="0" lang="en-US" sz="1600" spc="-1" strike="noStrike">
                <a:solidFill>
                  <a:srgbClr val="88261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26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261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FDBA-C977-468E-B8F0-E54074963296}" type="slidenum">
              <a:rPr b="0" lang="en-US" sz="1600" spc="-1" strike="noStrike">
                <a:solidFill>
                  <a:srgbClr val="88261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6c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26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261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E868-9C8A-4761-8030-AF9B3C406BC6}" type="slidenum">
              <a:rPr b="0" lang="en-US" sz="1600" spc="-1" strike="noStrike">
                <a:solidFill>
                  <a:srgbClr val="88261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6c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26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261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EBFA-609C-4A44-B722-15282AE7AA0B}" type="slidenum">
              <a:rPr b="0" lang="en-US" sz="1600" spc="-1" strike="noStrike">
                <a:solidFill>
                  <a:srgbClr val="88261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6c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26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261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F591-BE14-4DED-BE04-C75C0846999E}" type="slidenum">
              <a:rPr b="0" lang="en-US" sz="1600" spc="-1" strike="noStrike">
                <a:solidFill>
                  <a:srgbClr val="88261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6c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26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261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396A-7E08-4299-AA29-24BCAE97A1D7}" type="slidenum">
              <a:rPr b="0" lang="en-US" sz="1600" spc="-1" strike="noStrike">
                <a:solidFill>
                  <a:srgbClr val="88261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26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261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FB8A-1786-43B8-A5C1-00CF94EBE0BF}" type="slidenum">
              <a:rPr b="0" lang="en-US" sz="1600" spc="-1" strike="noStrike">
                <a:solidFill>
                  <a:srgbClr val="88261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6c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26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9b2d1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261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6CDD-39E6-41CD-B253-928F097B22E3}" type="slidenum">
              <a:rPr b="0" lang="en-US" sz="1600" spc="-1" strike="noStrike">
                <a:solidFill>
                  <a:srgbClr val="88261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6c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9b2d1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26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261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D9FC-3EA8-4E53-AD10-D631AFE7A7E0}" type="slidenum">
              <a:rPr b="0" lang="en-US" sz="1600" spc="-1" strike="noStrike">
                <a:solidFill>
                  <a:srgbClr val="88261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26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261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CE54-8A77-4F1F-A7EC-1062E26A25C0}" type="slidenum">
              <a:rPr b="0" lang="en-US" sz="1600" spc="-1" strike="noStrike">
                <a:solidFill>
                  <a:srgbClr val="88261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4900-8120-4E90-8C5A-ACC196F21C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26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2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2d1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96c0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b2d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261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B3C7-57E1-4D7A-9D3B-3AE039313CAD}" type="slidenum">
              <a:rPr b="0" lang="en-US" sz="1600" spc="-1" strike="noStrike">
                <a:solidFill>
                  <a:srgbClr val="88261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Y: BECCA ROGGENBUCK 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ERIOD: 8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d1f"/>
                </a:solidFill>
                <a:latin typeface="Georgia"/>
              </a:rPr>
              <a:t>Weihnachten in Germany</a:t>
            </a:r>
            <a:endParaRPr b="0" lang="en-US" sz="4200" spc="-1" strike="noStrike">
              <a:solidFill>
                <a:srgbClr val="88261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Answers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e answers are…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1. b) 14</a:t>
            </a:r>
            <a:r>
              <a:rPr b="0" lang="en-US" sz="2700" spc="-1" strike="noStrike" baseline="30000">
                <a:solidFill>
                  <a:srgbClr val="ffffff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century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2. c) stollen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Sources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http://www.germanfoods.org/consumer/facts/christmastraditions.cfm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http://www.vistawide.com/german/christmas/german_christmas_traditions.htm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http://tlc.howstuffworks.com/family/christmas-traditions-around-the-world-ga6.htm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http://storybookwoods.typepad.com/storybook_woods/images/advent_main.gif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http://www.germany-insider-facts.com/image-files/german-christmas-markets-jena.jpg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http://dhsdeutsch.weebly.com/uploads/1/2/6/2/1262224/7065578_orig.jpg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http://www.spangdahlem.af.mil/news/story.asp?id=123179919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Adven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Advent is started at the beginning of December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Germans have advent calendars for the children where they open a window each day and receive a small piece of chocolate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Germans also put up advent wreaths to start the Advent season.  They gather every Sunday and light a candle on the wreath and sing Christmas carols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hristmas Markets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As Advent season begins, the Christmas Markets also open in all towns across Germany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People gather in the towns square where a band is usually playing during the market  time. Lots of hot drinks such as apple cider or beer is sold along with cookies and gingerbread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ese markets originated in the 14</a:t>
            </a:r>
            <a:r>
              <a:rPr b="0" lang="en-US" sz="2700" spc="-1" strike="noStrike" baseline="30000">
                <a:solidFill>
                  <a:srgbClr val="ffffff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century and were created to sell seasonal items to celebrate holidays such as Christmas.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Advent Calendar and Christmas Market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14" name="Picture 2" descr="http://storybookwoods.typepad.com/storybook_woods/images/advent_main.gif"/>
          <p:cNvPicPr/>
          <p:nvPr/>
        </p:nvPicPr>
        <p:blipFill>
          <a:blip r:embed="rId1"/>
          <a:stretch/>
        </p:blipFill>
        <p:spPr>
          <a:xfrm>
            <a:off x="1066680" y="2590920"/>
            <a:ext cx="3353040" cy="37544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http://www.germany-insider-facts.com/image-files/german-christmas-markets-jena.jpg"/>
          <p:cNvPicPr/>
          <p:nvPr/>
        </p:nvPicPr>
        <p:blipFill>
          <a:blip r:embed="rId2"/>
          <a:stretch/>
        </p:blipFill>
        <p:spPr>
          <a:xfrm>
            <a:off x="4038480" y="1600200"/>
            <a:ext cx="4648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Christmas Tree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eorgia"/>
              </a:rPr>
              <a:t>Traditionally, the Christmas tree is never set up until Christmas Eve where the family gathers and decorates the tree.  The tree is taken down around January 1</a:t>
            </a:r>
            <a:r>
              <a:rPr b="0" lang="en-US" sz="2500" spc="-1" strike="noStrike" baseline="30000">
                <a:solidFill>
                  <a:srgbClr val="ffffff"/>
                </a:solidFill>
                <a:latin typeface="Georgia"/>
              </a:rPr>
              <a:t>st</a:t>
            </a:r>
            <a:r>
              <a:rPr b="0" lang="en-US" sz="2500" spc="-1" strike="noStrike">
                <a:solidFill>
                  <a:srgbClr val="ffffff"/>
                </a:solidFill>
                <a:latin typeface="Georgia"/>
              </a:rPr>
              <a:t> or 6</a:t>
            </a:r>
            <a:r>
              <a:rPr b="0" lang="en-US" sz="2500" spc="-1" strike="noStrike" baseline="30000">
                <a:solidFill>
                  <a:srgbClr val="ffffff"/>
                </a:solidFill>
                <a:latin typeface="Georgia"/>
              </a:rPr>
              <a:t>th</a:t>
            </a:r>
            <a:r>
              <a:rPr b="0" lang="en-US" sz="2500" spc="-1" strike="noStrike">
                <a:solidFill>
                  <a:srgbClr val="ffffff"/>
                </a:solidFill>
                <a:latin typeface="Georgia"/>
              </a:rPr>
              <a:t>. </a:t>
            </a: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eorgia"/>
              </a:rPr>
              <a:t>Traditional ornaments used on Christmas trees are cookies and candies.  On New Year’s Day the children are able to eat the candies and cookies from the tree. </a:t>
            </a: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eorgia"/>
              </a:rPr>
              <a:t>The first known Christmas tree to be set up was in Freiburg in 1419. </a:t>
            </a: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St. Nikolaus 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t. Nikolaus’s Day is celebrated on December 6</a:t>
            </a:r>
            <a:r>
              <a:rPr b="0" lang="en-US" sz="2700" spc="-1" strike="noStrike" baseline="30000">
                <a:solidFill>
                  <a:srgbClr val="ffffff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in Germany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The children set out their newly polished shoes in wait for St. Nikolaus to come and put sweets, fruits, nuts, and chocolate in their shoes; as long as they were good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t. Nikolaus was originally a bishop but he soon was known as a protector of children and an anonymous gift giver to them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St. Nikolaus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22" name="Picture 4" descr="http://dhsdeutsch.weebly.com/uploads/1/2/6/2/1262224/7065578_orig.jpg"/>
          <p:cNvPicPr/>
          <p:nvPr/>
        </p:nvPicPr>
        <p:blipFill>
          <a:blip r:embed="rId1"/>
          <a:stretch/>
        </p:blipFill>
        <p:spPr>
          <a:xfrm>
            <a:off x="457200" y="1447920"/>
            <a:ext cx="3819600" cy="36288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Sankt Nikolaus"/>
          <p:cNvPicPr/>
          <p:nvPr/>
        </p:nvPicPr>
        <p:blipFill>
          <a:blip r:embed="rId2"/>
          <a:stretch/>
        </p:blipFill>
        <p:spPr>
          <a:xfrm>
            <a:off x="4114800" y="3124080"/>
            <a:ext cx="43894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Traditional Food and Drinks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A traditional drink in German on a cold day is Glühwein, hot mulled red wine with a possible shot of  brandy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ome popular foods to eat during Christmas in Germany is: duck, goose, rabbit, roast,  apple stuffing,  chocolate, gingerbread, and stollen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ruitcake was adapted from stollen;  stollen usually consists of nuts and fruit.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261a"/>
                </a:solidFill>
                <a:latin typeface="Georgia"/>
              </a:rPr>
              <a:t>Questions</a:t>
            </a:r>
            <a:endParaRPr b="0" lang="en-US" sz="3300" spc="-1" strike="noStrike">
              <a:solidFill>
                <a:srgbClr val="88261a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hristmas markets originated in what century: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a) 15</a:t>
            </a:r>
            <a:r>
              <a:rPr b="0" lang="en-US" sz="2700" spc="-1" strike="noStrike" baseline="30000">
                <a:solidFill>
                  <a:srgbClr val="ffffff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century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b) 14</a:t>
            </a:r>
            <a:r>
              <a:rPr b="0" lang="en-US" sz="2700" spc="-1" strike="noStrike" baseline="30000">
                <a:solidFill>
                  <a:srgbClr val="ffffff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century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) 16</a:t>
            </a:r>
            <a:r>
              <a:rPr b="0" lang="en-US" sz="2700" spc="-1" strike="noStrike" baseline="30000">
                <a:solidFill>
                  <a:srgbClr val="ffffff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century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ruitcake is an adaptation of what baked good: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a) gingerbread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b) angel food cake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) stollen 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9b2d1f"/>
              </a:buClr>
              <a:buSzPct val="85000"/>
              <a:buFont typeface="Georg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7:47:45Z</dcterms:created>
  <dc:creator>Becca</dc:creator>
  <dc:description/>
  <dc:language>en-US</dc:language>
  <cp:lastModifiedBy>Becca</cp:lastModifiedBy>
  <dcterms:modified xsi:type="dcterms:W3CDTF">2011-10-26T03:09:33Z</dcterms:modified>
  <cp:revision>10</cp:revision>
  <dc:subject/>
  <dc:title>Slide 1</dc:title>
</cp:coreProperties>
</file>